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89D8-BC4F-4E06-844D-410069081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4371-1E1A-4BA5-94E9-06DB4E9AE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4F54-2CD0-4506-B19E-CCFB895CD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C987-3F74-485A-8417-CF1E3AE9E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891A-2865-4829-B953-BD7DACF27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09F7-21AE-43A1-943C-E326E4678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EC57-C1F2-452C-A24B-255D700F3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3CB8-17D8-4F5C-BFC7-920A2FE94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AB4B-3DD0-41BA-95D0-9832548C2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FF50-1E81-49E9-8690-204FC64A7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65CF-C942-418E-A322-CCA7E85CC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CB8F-D85B-408B-B064-F2C47206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100E3-8F34-4A49-ABC2-9175E648DC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30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I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HALLOWEEN NIGHT when I woke up my lights turned on and off and when it stopped I saw a black figure staring at me and it said give me all your candy and I said no you mean witch and it took my candy rite out of my hand and I didn’t see my candy aga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8T17:30:00Z</dcterms:created>
  <dc:creator>Stephanie Ann Rhodes</dc:creator>
  <dc:description/>
  <dc:language>en-US</dc:language>
  <cp:lastModifiedBy>Joni George</cp:lastModifiedBy>
  <dcterms:modified xsi:type="dcterms:W3CDTF">2010-11-04T18:41:27Z</dcterms:modified>
  <cp:revision>4</cp:revision>
  <dc:subject/>
  <dc:title>The WITCH</dc:title>
</cp:coreProperties>
</file>